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B919-18A7-4ED7-BFF0-FCC6FA666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B794-6493-43AF-916E-DF0672E6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E9B3-CDA4-43BC-8E91-79F7630E8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7EA2-AD6B-42D0-A17E-D344062A5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1592-5738-4673-9665-01A46AFB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4E56-91E0-4FDB-B994-5AF1F7E9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97EE-5F1F-47A3-A3B5-5D857139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5949-27F7-4DB6-B6B6-4CA8488D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DCB5-08E2-4069-8355-31829D6C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49E7-1947-4861-9CFC-E55A8E6F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172F-CF2B-4080-BC57-A4FC3CB1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427D-0017-440B-BE22-AF89CDE0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120E-70B3-4686-9D81-F8D4D1FD06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INGER                                           SINGER                                   SINGER  1980                                 SINGER  75TH               STRATHLEVEN  BOND  PUBLIC    STRONVAAR - CAMPBELTOW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3452760" y="0"/>
            <a:ext cx="249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4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32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AMPBELTOWN  100TH              CAMPBELTOWN  100TH                       TARBERT                                        TARBERT                                     TOWNEND                                          TOWNE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TOWNEND  100TH                        VALE  OF  LEVEN                   VALE  OF  LEVEN  100TH            VALE OF LEVEN  125TH                         WESTERTON                                   WESTER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8" descr="Tarbert 2"/>
          <p:cNvPicPr/>
          <p:nvPr/>
        </p:nvPicPr>
        <p:blipFill>
          <a:blip r:embed="rId1"/>
          <a:stretch/>
        </p:blipFill>
        <p:spPr>
          <a:xfrm>
            <a:off x="4881600" y="2143080"/>
            <a:ext cx="1084320" cy="1092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9" descr="Townend 1"/>
          <p:cNvPicPr/>
          <p:nvPr/>
        </p:nvPicPr>
        <p:blipFill>
          <a:blip r:embed="rId2"/>
          <a:stretch/>
        </p:blipFill>
        <p:spPr>
          <a:xfrm>
            <a:off x="6238800" y="2143080"/>
            <a:ext cx="1170000" cy="1106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Townend 2"/>
          <p:cNvPicPr/>
          <p:nvPr/>
        </p:nvPicPr>
        <p:blipFill>
          <a:blip r:embed="rId3"/>
          <a:stretch/>
        </p:blipFill>
        <p:spPr>
          <a:xfrm>
            <a:off x="7738920" y="2071800"/>
            <a:ext cx="122580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1" descr="Townend 100th"/>
          <p:cNvPicPr/>
          <p:nvPr/>
        </p:nvPicPr>
        <p:blipFill>
          <a:blip r:embed="rId4"/>
          <a:stretch/>
        </p:blipFill>
        <p:spPr>
          <a:xfrm>
            <a:off x="452520" y="3571920"/>
            <a:ext cx="1279440" cy="1279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2" descr="Vale Of Leven 1"/>
          <p:cNvPicPr/>
          <p:nvPr/>
        </p:nvPicPr>
        <p:blipFill>
          <a:blip r:embed="rId5"/>
          <a:stretch/>
        </p:blipFill>
        <p:spPr>
          <a:xfrm>
            <a:off x="2023920" y="3571920"/>
            <a:ext cx="987480" cy="126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3" descr="Vale Of Leven 100th"/>
          <p:cNvPicPr/>
          <p:nvPr/>
        </p:nvPicPr>
        <p:blipFill>
          <a:blip r:embed="rId6"/>
          <a:stretch/>
        </p:blipFill>
        <p:spPr>
          <a:xfrm>
            <a:off x="3452760" y="3429000"/>
            <a:ext cx="1116000" cy="1390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4" descr="Vale Of Leven 125th"/>
          <p:cNvPicPr/>
          <p:nvPr/>
        </p:nvPicPr>
        <p:blipFill>
          <a:blip r:embed="rId7"/>
          <a:stretch/>
        </p:blipFill>
        <p:spPr>
          <a:xfrm>
            <a:off x="4881600" y="3429000"/>
            <a:ext cx="1152360" cy="1390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5" descr="Westerton 1"/>
          <p:cNvPicPr/>
          <p:nvPr/>
        </p:nvPicPr>
        <p:blipFill>
          <a:blip r:embed="rId8"/>
          <a:stretch/>
        </p:blipFill>
        <p:spPr>
          <a:xfrm>
            <a:off x="6381720" y="371484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6" descr="Westerton 2"/>
          <p:cNvPicPr/>
          <p:nvPr/>
        </p:nvPicPr>
        <p:blipFill>
          <a:blip r:embed="rId9"/>
          <a:stretch/>
        </p:blipFill>
        <p:spPr>
          <a:xfrm>
            <a:off x="7953480" y="3786120"/>
            <a:ext cx="950760" cy="99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7" descr="Westerton 3"/>
          <p:cNvPicPr/>
          <p:nvPr/>
        </p:nvPicPr>
        <p:blipFill>
          <a:blip r:embed="rId10"/>
          <a:stretch/>
        </p:blipFill>
        <p:spPr>
          <a:xfrm>
            <a:off x="523800" y="5500800"/>
            <a:ext cx="987480" cy="1047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8" descr="Westerton 4"/>
          <p:cNvPicPr/>
          <p:nvPr/>
        </p:nvPicPr>
        <p:blipFill>
          <a:blip r:embed="rId11"/>
          <a:stretch/>
        </p:blipFill>
        <p:spPr>
          <a:xfrm>
            <a:off x="2095560" y="557208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9" descr="Westerton 50th"/>
          <p:cNvPicPr/>
          <p:nvPr/>
        </p:nvPicPr>
        <p:blipFill>
          <a:blip r:embed="rId12"/>
          <a:stretch/>
        </p:blipFill>
        <p:spPr>
          <a:xfrm>
            <a:off x="3524400" y="5357880"/>
            <a:ext cx="1006200" cy="117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0" descr="Whitecrook Public 1"/>
          <p:cNvPicPr/>
          <p:nvPr/>
        </p:nvPicPr>
        <p:blipFill>
          <a:blip r:embed="rId13"/>
          <a:stretch/>
        </p:blipFill>
        <p:spPr>
          <a:xfrm>
            <a:off x="4952880" y="5429160"/>
            <a:ext cx="1060560" cy="1047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1" descr="Whitecrook Public 2"/>
          <p:cNvPicPr/>
          <p:nvPr/>
        </p:nvPicPr>
        <p:blipFill>
          <a:blip r:embed="rId14"/>
          <a:stretch/>
        </p:blipFill>
        <p:spPr>
          <a:xfrm>
            <a:off x="6381720" y="5357880"/>
            <a:ext cx="1206360" cy="1170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2" descr="Whitecrook Public 50th"/>
          <p:cNvPicPr/>
          <p:nvPr/>
        </p:nvPicPr>
        <p:blipFill>
          <a:blip r:embed="rId15"/>
          <a:stretch/>
        </p:blipFill>
        <p:spPr>
          <a:xfrm>
            <a:off x="7881840" y="5357880"/>
            <a:ext cx="1243080" cy="1216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9"/>
          <p:cNvSpPr/>
          <p:nvPr/>
        </p:nvSpPr>
        <p:spPr>
          <a:xfrm>
            <a:off x="0" y="6515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ESTERTON                                       WESTERTON                          WESTERTON  50TH                   WHITECROOK  PUBLIC               WHITECROOK  PUBLIC             WHITECROOK  PUBLIC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0" descr="Tarbert"/>
          <p:cNvPicPr/>
          <p:nvPr/>
        </p:nvPicPr>
        <p:blipFill>
          <a:blip r:embed="rId16"/>
          <a:stretch/>
        </p:blipFill>
        <p:spPr>
          <a:xfrm>
            <a:off x="3381480" y="2143080"/>
            <a:ext cx="1042920" cy="1084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2" descr="Stronvaar Campbeltown"/>
          <p:cNvPicPr/>
          <p:nvPr/>
        </p:nvPicPr>
        <p:blipFill>
          <a:blip r:embed="rId17"/>
          <a:stretch/>
        </p:blipFill>
        <p:spPr>
          <a:xfrm>
            <a:off x="7667640" y="285840"/>
            <a:ext cx="1170000" cy="1325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3" descr="Stronvaar Campbeltown 100tha"/>
          <p:cNvPicPr/>
          <p:nvPr/>
        </p:nvPicPr>
        <p:blipFill>
          <a:blip r:embed="rId18"/>
          <a:stretch/>
        </p:blipFill>
        <p:spPr>
          <a:xfrm>
            <a:off x="523800" y="1928880"/>
            <a:ext cx="976320" cy="134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4" descr="Stronvaar Campbeltown 100thb"/>
          <p:cNvPicPr/>
          <p:nvPr/>
        </p:nvPicPr>
        <p:blipFill>
          <a:blip r:embed="rId19"/>
          <a:stretch/>
        </p:blipFill>
        <p:spPr>
          <a:xfrm>
            <a:off x="2023920" y="1928880"/>
            <a:ext cx="1001880" cy="1295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5" descr="Strathleven Bond Wks"/>
          <p:cNvPicPr/>
          <p:nvPr/>
        </p:nvPicPr>
        <p:blipFill>
          <a:blip r:embed="rId20"/>
          <a:stretch/>
        </p:blipFill>
        <p:spPr>
          <a:xfrm>
            <a:off x="6238800" y="500040"/>
            <a:ext cx="1096920" cy="1069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6" descr="Singer 4 1980"/>
          <p:cNvPicPr/>
          <p:nvPr/>
        </p:nvPicPr>
        <p:blipFill>
          <a:blip r:embed="rId21"/>
          <a:stretch/>
        </p:blipFill>
        <p:spPr>
          <a:xfrm>
            <a:off x="3309840" y="214200"/>
            <a:ext cx="1133640" cy="1352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7" descr="Singer 75th"/>
          <p:cNvPicPr/>
          <p:nvPr/>
        </p:nvPicPr>
        <p:blipFill>
          <a:blip r:embed="rId22"/>
          <a:stretch/>
        </p:blipFill>
        <p:spPr>
          <a:xfrm>
            <a:off x="4738680" y="0"/>
            <a:ext cx="1170000" cy="1619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Singer 2.JPG"/>
          <p:cNvPicPr/>
          <p:nvPr/>
        </p:nvPicPr>
        <p:blipFill>
          <a:blip r:embed="rId23"/>
          <a:stretch/>
        </p:blipFill>
        <p:spPr>
          <a:xfrm>
            <a:off x="380880" y="285840"/>
            <a:ext cx="1279800" cy="1266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Singer 3.JPG"/>
          <p:cNvPicPr/>
          <p:nvPr/>
        </p:nvPicPr>
        <p:blipFill>
          <a:blip r:embed="rId24"/>
          <a:stretch/>
        </p:blipFill>
        <p:spPr>
          <a:xfrm>
            <a:off x="1809720" y="214200"/>
            <a:ext cx="135252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5T08:58:42Z</dcterms:created>
  <dc:creator>JOHN YOUNG</dc:creator>
  <dc:description/>
  <dc:language>en-US</dc:language>
  <cp:lastModifiedBy>John</cp:lastModifiedBy>
  <dcterms:modified xsi:type="dcterms:W3CDTF">2009-02-09T15:59:34Z</dcterms:modified>
  <cp:revision>21</cp:revision>
  <dc:subject/>
  <dc:title>PowerPoint Presentation</dc:title>
</cp:coreProperties>
</file>